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D41E-3FCF-4FE5-AC41-5E74279F1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7BE1-49DB-4B71-8953-4EA5C0D50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F831-FDB2-4A66-B434-2FEEF4689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7DD1-5607-4025-B2AC-6A0E5D17D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E2DD-9F39-40CC-BDF8-F6141A252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4DB6-ABF4-4821-A549-A8E1548E6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C73E-2EB2-4BE4-A478-700B1123B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D146-7BAD-49B0-A852-E0118E60C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7298-7BB1-45C5-BFF8-A39A7D7A2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AC5C-5E83-4895-94AD-B3D3013B0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F10D-51EC-4D9B-A833-05213DF73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7C36-B53E-4B54-95E5-7BE31EF54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DD90-C2D3-4E38-9B6F-C16211A32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8CB1-B6D3-42B3-8EF2-74CBCD4C6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AC8C-EE47-4D27-8BF1-C5290B58E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8B6C-1781-4526-9F5C-FB092E3DC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B1B1-95AC-417A-A991-980EB7D11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759B-BA4C-4A52-9501-BAF0FF980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3F78-CC46-47AD-A770-814EFA373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FC25-C222-44A3-8F29-B6FFA5C70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8C47-0E81-45AD-83A2-E44934622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0855-7DCC-417D-8461-944DB0F54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63FB-DD33-4533-AD18-4608A06EB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6363-44D9-496B-A6DB-094671CD4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D200-82F1-4ABA-92F3-5CA9F5BE2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AC55-9D01-4049-A3A8-FBC46A1E0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7466-9359-4F35-92CC-0D77F7F8B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0E17-B2B3-4065-A5F6-BBD246F8D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       Slide </a:t>
            </a:r>
            <a:fld id="{716DECF4-3FF1-424A-96A2-849EDC89B258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037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5875200"/>
            <a:ext cx="9144000" cy="1022400"/>
          </a:xfrm>
          <a:prstGeom prst="rect">
            <a:avLst/>
          </a:prstGeom>
          <a:solidFill>
            <a:srgbClr val="604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2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8AC7647D-81F7-4C25-AF21-B1616BAEBAD4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3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57CAF57A-277C-4787-9BB3-E4475EC2F136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4"/>
          </p:nvPr>
        </p:nvSpPr>
        <p:spPr>
          <a:xfrm>
            <a:off x="668160" y="6244920"/>
            <a:ext cx="8018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3E577CF4-6DEB-428A-84AC-9043A88E3E67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ftr" idx="5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58287332-27EF-4C9A-BC5D-FE0EF0BEB703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6"/>
          </p:nvPr>
        </p:nvSpPr>
        <p:spPr>
          <a:xfrm>
            <a:off x="696960" y="6244920"/>
            <a:ext cx="798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4533C66C-08A8-40DF-9B62-411E656E4B44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ftr" idx="7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97B82CD0-477C-41FA-9184-5CD9FB0453FF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ftr" idx="8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A5BD8CB7-B677-4363-B8F6-7BA2BF5FA13C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89000" y="5297040"/>
            <a:ext cx="8766000" cy="13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3: Connecting to the World’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esson 10:  Computers and Daily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omputing History Mileston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computers helped astronauts land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1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FEB620F7-5805-445E-9586-6519B2D48DAE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omputing History Mileston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990360" y="160020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7 – Apple PC int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5-1/4” floppy disk drives and a 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1 – IBM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national Business Machines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C int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was Intel 8088 @ 4.77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RAM was 16kb to 256k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(single-user) computers were now practical for business and personal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1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624F4D1E-3495-4944-8021-9870D5B9ADF1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omputing History Mileston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16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 1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6EC4475B-6923-4EDB-A303-E25EBC83B479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http://www.engadget.com/media/2006/03/appleii.jpg"/>
          <p:cNvPicPr/>
          <p:nvPr/>
        </p:nvPicPr>
        <p:blipFill>
          <a:blip r:embed="rId1"/>
          <a:stretch/>
        </p:blipFill>
        <p:spPr>
          <a:xfrm>
            <a:off x="692280" y="1952640"/>
            <a:ext cx="4047840" cy="37432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http://www.cs.uakron.edu/~margush/465/01_images/1981_ibm-pc.jpg"/>
          <p:cNvPicPr/>
          <p:nvPr/>
        </p:nvPicPr>
        <p:blipFill>
          <a:blip r:embed="rId2"/>
          <a:stretch/>
        </p:blipFill>
        <p:spPr>
          <a:xfrm>
            <a:off x="4871880" y="1778040"/>
            <a:ext cx="391824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omputing History Mileston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20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1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103B89BF-8C6F-4E4F-9EE5-2E2134FFF9B2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6" descr="http://t3.gstatic.com/images?q=tbn:ANd9GcSawrB76aUFxIJcehksozDRCeUeTcPDo0hKLZMVgwP_LU_frz8_"/>
          <p:cNvPicPr/>
          <p:nvPr/>
        </p:nvPicPr>
        <p:blipFill>
          <a:blip r:embed="rId1"/>
          <a:stretch/>
        </p:blipFill>
        <p:spPr>
          <a:xfrm>
            <a:off x="5716440" y="2527200"/>
            <a:ext cx="3249720" cy="29322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163440" y="1528920"/>
            <a:ext cx="668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book computers were int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notebooks were made by Tandy, Epson and N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S-80 Model 100 specif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604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MHz Intel 80c85 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604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kb memory, up to 32 k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604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ochrome LCD screen (40 characters x 8 row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604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: 4 l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604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tery life: 20 hours (on 4 AA batte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604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omputing History Mileston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573280" y="1464840"/>
            <a:ext cx="6308640" cy="46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e introduces the Macinto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al interface used pictures and icons instead of text-mode and command-drive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ndled applications were MacWrite and MacPa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sktop included a trash can where you could drag files to delet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1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811C6BE4-1E59-44AF-B12C-271FF7EA009C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8"/>
          <p:cNvSpPr/>
          <p:nvPr/>
        </p:nvSpPr>
        <p:spPr>
          <a:xfrm>
            <a:off x="230040" y="-860400"/>
            <a:ext cx="188604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14"/>
          <p:cNvSpPr/>
          <p:nvPr/>
        </p:nvSpPr>
        <p:spPr>
          <a:xfrm>
            <a:off x="687240" y="-403200"/>
            <a:ext cx="188604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16" descr="http://www.brew-wood.co.uk/computers/Macintosh.gif"/>
          <p:cNvPicPr/>
          <p:nvPr/>
        </p:nvPicPr>
        <p:blipFill>
          <a:blip r:embed="rId1"/>
          <a:stretch/>
        </p:blipFill>
        <p:spPr>
          <a:xfrm>
            <a:off x="77760" y="2473200"/>
            <a:ext cx="322092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omputing History Mileston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78000" y="1481040"/>
            <a:ext cx="853416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orld Wide Web debuted as a publicly available service on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text pages containing text, images, and links that could be immediately followed with a cl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 Berners-Lee, an English computer scientist and MIT professor, is credited with inventing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development from 1980-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net is much older than the WW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1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44346F7D-9D17-4F9D-ADB3-6A3656521708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omputing History Mileston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33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1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8FCBF160-2E0E-4298-BE98-0B652DE68E9C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6" descr="http://4.bp.blogspot.com/_86fa3woQOHU/SxMidoAI0FI/AAAAAAAAA6U/hSXg3eYbqJU/s640/psion3a.jpg"/>
          <p:cNvPicPr/>
          <p:nvPr/>
        </p:nvPicPr>
        <p:blipFill>
          <a:blip r:embed="rId1"/>
          <a:stretch/>
        </p:blipFill>
        <p:spPr>
          <a:xfrm>
            <a:off x="4348080" y="1681200"/>
            <a:ext cx="5499360" cy="30938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264600" y="1541160"/>
            <a:ext cx="521676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As were int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son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it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mall, handheld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04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ed for use as a personal organizer with communications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pple Newton was an early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omputing History Mileston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525240" y="1600200"/>
            <a:ext cx="578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t PCs were int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book without a key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 incorporates a digit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04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1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75BBED65-C7A8-4EDA-93DB-A1F01899910C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6"/>
          <p:cNvSpPr/>
          <p:nvPr/>
        </p:nvSpPr>
        <p:spPr>
          <a:xfrm>
            <a:off x="77760" y="-1004760"/>
            <a:ext cx="2095560" cy="20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8" descr="http://www.notebookreview.com/assets/13821.jpg"/>
          <p:cNvPicPr/>
          <p:nvPr/>
        </p:nvPicPr>
        <p:blipFill>
          <a:blip r:embed="rId1"/>
          <a:stretch/>
        </p:blipFill>
        <p:spPr>
          <a:xfrm>
            <a:off x="4248000" y="3659040"/>
            <a:ext cx="36198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omputing History Mileston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e releases the i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held computer AND a phone with wireless internet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04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uchscreen allows fingertip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1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6732C5A8-5284-4763-BFDF-194B843E6F03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77760" y="-563400"/>
            <a:ext cx="180972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8" descr="http://thenextweb.com/mobile/files/2010/07/iphones.jpeg"/>
          <p:cNvPicPr/>
          <p:nvPr/>
        </p:nvPicPr>
        <p:blipFill>
          <a:blip r:embed="rId1"/>
          <a:stretch/>
        </p:blipFill>
        <p:spPr>
          <a:xfrm>
            <a:off x="2463840" y="3868560"/>
            <a:ext cx="42861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How Computers</a:t>
            </a:r>
            <a:br>
              <a:rPr sz="4000"/>
            </a:b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Improve Productivity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ivity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 measure of how much work can be done in a certain amount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lived for thousands of years without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hy have we become so dependent on them 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y increase our 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D6D75F4A-08EE-4A63-AFC8-E5E71A843090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New Ideas from Spac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90360" y="2163240"/>
            <a:ext cx="3771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ther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ing/cooling for h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ardous chemical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/water pu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yc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914720" y="2163600"/>
            <a:ext cx="3771720" cy="42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-resistant sung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er treatment of arterioscler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devices: pacemaker &amp; defibril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hardware &amp;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BBD33D52-0E48-4D56-9DD6-508B38B0EF3B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8"/>
          <p:cNvSpPr/>
          <p:nvPr/>
        </p:nvSpPr>
        <p:spPr>
          <a:xfrm>
            <a:off x="479520" y="1639800"/>
            <a:ext cx="84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ace program led to a wave of inven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How Computers</a:t>
            </a:r>
            <a:br>
              <a:rPr sz="4000"/>
            </a:b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Improve Productivity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computers make people more productive? List your ideas in your notes – share with class (brainstorm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305D8D3C-500A-419A-874A-500E2195A6E0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How Computers</a:t>
            </a:r>
            <a:br>
              <a:rPr sz="4000"/>
            </a:b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Improve Productivity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omputers make people less productive?  List some ideas in your notes – share with class (brainstorm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D375FA09-5CE5-444C-A523-67860D1F61D6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How Computers</a:t>
            </a:r>
            <a:br>
              <a:rPr sz="4000"/>
            </a:b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Improve Productivity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get along without a computer, cell phone, or other digital tools?  List ideas in your notes – share with class (brainst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94225104-98BB-41E9-901C-75ACB0E64578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Impact of Computers on Society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990720" y="1600200"/>
            <a:ext cx="76960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e if all computers suddenly disappeared. As you go through your day, think how things would be differen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ool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heating, cooling, emergency, and communication systems all use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al clocks, lights, fire alarms, attendance, grades, assignments from teacher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EB3662DA-5C7F-4108-BEDB-6038D49047F0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Impact of Computers on Society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port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without computers, most modern cars would stop wor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ffic lights, warning systems, amber alerts, pollution control, starter system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DB838582-3608-4B25-B6A7-4B7ADC54C060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Impact of Computers on Society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m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Most appliances, clocks, and other electronic devices would stop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al phones, TVs, radios, DVD players, computer games/systems, Internet, email, instant messaging, home security system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6EFC5CCD-07EC-4BDA-89B6-AB31A85D4EAE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Impact of Computers on Society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ey and Shopping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Monetary transactions are routed and recorded by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M machines, credit card systems, debit cards, computerized cash registers, elevators &amp; escalator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B23B06FC-26CB-45F3-9C28-1CD348CAEB67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Impact of Computers on Society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pace Progr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Without computers, spaceships would never get off the ground, satellites would quit working, the International Space Station would crash to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might not discover new opportunities in our expanding univers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73B4EDBF-3667-4F27-9C68-3F0C73E07EE6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The PC Rac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65120" y="1480680"/>
            <a:ext cx="84470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pace Rac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he rush to the moon in the 1960s was ca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sulted in the need for NASA’s development of smaller computers for space tra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 Electronic Computer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were introduced in mid-190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very large! Some computers were housed in Large Rooms and weigh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undre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pound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EF8FD877-DA69-461F-9A77-B2CA6AE77257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The PC Rac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 Electronic Computer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perform only basic functions:  add, subtract, divide, multi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do this much faster than a human, but compared to today’s machines – VERY SLOW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270C1525-0080-4978-8B8B-1C19811045B8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The PC Rac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s in computers came slowly as demand gr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ually, people started building smaller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ilestones in today’s computing world are outlined in next few s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E8E9A456-B084-4668-BFFF-24503A6DB3A1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omputing History Mileston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49280" y="1477800"/>
            <a:ext cx="5138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large-scale electronic computer (ENIAC) was c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eric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egrat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IAC's design and construction were financed by the United States Army during World War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1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F2799B30-6471-4AE6-8066-77D409EC87DF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6" descr="http://4.bp.blogspot.com/_neSIp1-Og1E/TT_qk5-fZFI/AAAAAAAAAAM/mDXo0e5lvpc/s1600/ENIAC.gif"/>
          <p:cNvPicPr/>
          <p:nvPr/>
        </p:nvPicPr>
        <p:blipFill>
          <a:blip r:embed="rId1"/>
          <a:stretch/>
        </p:blipFill>
        <p:spPr>
          <a:xfrm>
            <a:off x="5718240" y="2247840"/>
            <a:ext cx="305280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omputing History Mileston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90720" y="1464840"/>
            <a:ext cx="7696080" cy="46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AC bought by U.S. Census Bur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first commercial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s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omat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1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D6872835-C4E1-4A9E-AAFE-E13A96FA2331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6" descr="http://www.computermuseum.li/Testpage/UNIVAC-1-FullView-B.jpg"/>
          <p:cNvPicPr/>
          <p:nvPr/>
        </p:nvPicPr>
        <p:blipFill>
          <a:blip r:embed="rId1"/>
          <a:stretch/>
        </p:blipFill>
        <p:spPr>
          <a:xfrm>
            <a:off x="2521080" y="3592440"/>
            <a:ext cx="422424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omputing History Mileston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739440" y="1599840"/>
            <a:ext cx="484812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computer m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by Douglas Engelb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knamed the “mouse” because a tail came out th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arly mouse was a wooden shell with two metal whe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1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21311FE2-4493-45BF-9955-55D31B3C16B1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6" descr="http://www.southdreamz.com/wp-content/uploads/2009/11/worlds-first-computer-mouse-1964-by-douglas-engelbart.jpg"/>
          <p:cNvPicPr/>
          <p:nvPr/>
        </p:nvPicPr>
        <p:blipFill>
          <a:blip r:embed="rId1"/>
          <a:stretch/>
        </p:blipFill>
        <p:spPr>
          <a:xfrm>
            <a:off x="5759280" y="1566720"/>
            <a:ext cx="321156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omputing History Mileston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95440" y="1600200"/>
            <a:ext cx="548640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computers were int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computers to use integrated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user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took up one or two refrigerator-sized cabi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04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er than mainframes, which filled a 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1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86A4D133-ACCD-4A84-AE5C-CDE194F259B8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6" descr="http://image.absoluteastronomy.com/images/encyclopediaimages/p/pd/pdp7-oslo-2005.jpg"/>
          <p:cNvPicPr/>
          <p:nvPr/>
        </p:nvPicPr>
        <p:blipFill>
          <a:blip r:embed="rId1"/>
          <a:stretch/>
        </p:blipFill>
        <p:spPr>
          <a:xfrm>
            <a:off x="5338800" y="1762200"/>
            <a:ext cx="322272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23:29:38Z</dcterms:created>
  <dc:creator>Jean Bissell</dc:creator>
  <dc:description>Copyright 2006 South-Western/Thomson</dc:description>
  <dc:language>en-US</dc:language>
  <cp:lastModifiedBy>Lenessa Keehn</cp:lastModifiedBy>
  <dcterms:modified xsi:type="dcterms:W3CDTF">2011-04-03T23:07:49Z</dcterms:modified>
  <cp:revision>69</cp:revision>
  <dc:subject/>
  <dc:title>Slide 1</dc:title>
</cp:coreProperties>
</file>